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082" spc="-1" strike="noStrike">
                <a:solidFill>
                  <a:srgbClr val="000000"/>
                </a:solidFill>
                <a:latin typeface="Arial"/>
              </a:defRPr>
            </a:pPr>
            <a:r>
              <a:rPr b="0" sz="1082" spc="-1" strike="noStrike">
                <a:solidFill>
                  <a:srgbClr val="000000"/>
                </a:solidFill>
                <a:latin typeface="Arial"/>
              </a:rPr>
              <a:t>MATUTINO</a:t>
            </a:r>
          </a:p>
        </c:rich>
      </c:tx>
      <c:layout>
        <c:manualLayout>
          <c:xMode val="edge"/>
          <c:yMode val="edge"/>
          <c:x val="0.457490778187636"/>
          <c:y val="0.0199975003124609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156355455568054"/>
          <c:w val="0.959957335229545"/>
          <c:h val="0.823022122234721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10</c:v>
                </c:pt>
                <c:pt idx="3">
                  <c:v>0</c:v>
                </c:pt>
                <c:pt idx="4">
                  <c:v>2</c:v>
                </c:pt>
                <c:pt idx="5">
                  <c:v>0</c:v>
                </c:pt>
                <c:pt idx="6">
                  <c:v>2</c:v>
                </c:pt>
                <c:pt idx="7">
                  <c:v>2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7.80813953488372</c:v>
                </c:pt>
                <c:pt idx="1">
                  <c:v>6.43023255813953</c:v>
                </c:pt>
                <c:pt idx="2">
                  <c:v>17.453488372093</c:v>
                </c:pt>
                <c:pt idx="3">
                  <c:v>15.6162790697674</c:v>
                </c:pt>
                <c:pt idx="4">
                  <c:v>8.26744186046512</c:v>
                </c:pt>
                <c:pt idx="5">
                  <c:v>8.26744186046512</c:v>
                </c:pt>
                <c:pt idx="6">
                  <c:v>3.67441860465116</c:v>
                </c:pt>
                <c:pt idx="7">
                  <c:v>8.26744186046512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83720930232558</c:v>
                </c:pt>
                <c:pt idx="15">
                  <c:v>1.37790697674419</c:v>
                </c:pt>
              </c:numCache>
            </c:numRef>
          </c:val>
        </c:ser>
        <c:gapWidth val="100"/>
        <c:overlap val="0"/>
        <c:axId val="81360078"/>
        <c:axId val="59986560"/>
      </c:barChart>
      <c:catAx>
        <c:axId val="8136007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86560"/>
        <c:crossesAt val="0"/>
        <c:auto val="1"/>
        <c:lblAlgn val="ctr"/>
        <c:lblOffset val="100"/>
        <c:noMultiLvlLbl val="0"/>
      </c:catAx>
      <c:valAx>
        <c:axId val="599865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360078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6" spc="-1" strike="noStrike">
                <a:solidFill>
                  <a:srgbClr val="000000"/>
                </a:solidFill>
                <a:latin typeface="Arial"/>
              </a:defRPr>
            </a:pPr>
            <a:r>
              <a:rPr b="1" sz="1496" spc="-1" strike="noStrike">
                <a:solidFill>
                  <a:srgbClr val="000000"/>
                </a:solidFill>
                <a:latin typeface="Arial"/>
              </a:rPr>
              <a:t>MATUTINO</a:t>
            </a:r>
          </a:p>
        </c:rich>
      </c:tx>
      <c:layout>
        <c:manualLayout>
          <c:xMode val="edge"/>
          <c:yMode val="edge"/>
          <c:x val="0.438024976667704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209223847019123"/>
          <c:w val="0.959912892760322"/>
          <c:h val="0.77015373078365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2</c:v>
                </c:pt>
                <c:pt idx="2">
                  <c:v>4</c:v>
                </c:pt>
                <c:pt idx="3">
                  <c:v>0</c:v>
                </c:pt>
                <c:pt idx="4">
                  <c:v>2</c:v>
                </c:pt>
                <c:pt idx="5">
                  <c:v>0</c:v>
                </c:pt>
                <c:pt idx="6">
                  <c:v>0</c:v>
                </c:pt>
                <c:pt idx="7">
                  <c:v>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5.93023255813953</c:v>
                </c:pt>
                <c:pt idx="1">
                  <c:v>4.88372093023256</c:v>
                </c:pt>
                <c:pt idx="2">
                  <c:v>13.2558139534884</c:v>
                </c:pt>
                <c:pt idx="3">
                  <c:v>11.8604651162791</c:v>
                </c:pt>
                <c:pt idx="4">
                  <c:v>6.27906976744186</c:v>
                </c:pt>
                <c:pt idx="5">
                  <c:v>6.27906976744186</c:v>
                </c:pt>
                <c:pt idx="6">
                  <c:v>2.7906976744186</c:v>
                </c:pt>
                <c:pt idx="7">
                  <c:v>6.27906976744186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3953488372093</c:v>
                </c:pt>
                <c:pt idx="15">
                  <c:v>1.04651162790698</c:v>
                </c:pt>
              </c:numCache>
            </c:numRef>
          </c:val>
        </c:ser>
        <c:gapWidth val="100"/>
        <c:overlap val="0"/>
        <c:axId val="78603055"/>
        <c:axId val="25104307"/>
      </c:barChart>
      <c:catAx>
        <c:axId val="78603055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04307"/>
        <c:crossesAt val="0"/>
        <c:auto val="1"/>
        <c:lblAlgn val="ctr"/>
        <c:lblOffset val="100"/>
        <c:noMultiLvlLbl val="0"/>
      </c:catAx>
      <c:valAx>
        <c:axId val="251043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603055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500" spc="-1" strike="noStrike">
                <a:solidFill>
                  <a:srgbClr val="000000"/>
                </a:solidFill>
                <a:latin typeface="Arial"/>
              </a:defRPr>
            </a:pPr>
            <a:r>
              <a:rPr b="1" sz="1500" spc="-1" strike="noStrike">
                <a:solidFill>
                  <a:srgbClr val="000000"/>
                </a:solidFill>
                <a:latin typeface="Arial"/>
              </a:rPr>
              <a:t>MATUTINO</a:t>
            </a:r>
          </a:p>
        </c:rich>
      </c:tx>
      <c:layout>
        <c:manualLayout>
          <c:xMode val="edge"/>
          <c:yMode val="edge"/>
          <c:x val="0.438064459004781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663538161856"/>
          <c:y val="0.209473815773028"/>
          <c:w val="0.959978749778644"/>
          <c:h val="0.77015373078365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4</c:v>
                </c:pt>
                <c:pt idx="1">
                  <c:v>5</c:v>
                </c:pt>
                <c:pt idx="2">
                  <c:v>2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6.32558139534884</c:v>
                </c:pt>
                <c:pt idx="1">
                  <c:v>5.20930232558139</c:v>
                </c:pt>
                <c:pt idx="2">
                  <c:v>14.1395348837209</c:v>
                </c:pt>
                <c:pt idx="3">
                  <c:v>12.6511627906977</c:v>
                </c:pt>
                <c:pt idx="4">
                  <c:v>6.69767441860465</c:v>
                </c:pt>
                <c:pt idx="5">
                  <c:v>6.69767441860465</c:v>
                </c:pt>
                <c:pt idx="6">
                  <c:v>2.97674418604651</c:v>
                </c:pt>
                <c:pt idx="7">
                  <c:v>6.69767441860465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48837209302326</c:v>
                </c:pt>
                <c:pt idx="15">
                  <c:v>1.11627906976744</c:v>
                </c:pt>
              </c:numCache>
            </c:numRef>
          </c:val>
        </c:ser>
        <c:gapWidth val="100"/>
        <c:overlap val="0"/>
        <c:axId val="85576493"/>
        <c:axId val="43616857"/>
      </c:barChart>
      <c:catAx>
        <c:axId val="8557649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616857"/>
        <c:crossesAt val="0"/>
        <c:auto val="1"/>
        <c:lblAlgn val="ctr"/>
        <c:lblOffset val="100"/>
        <c:noMultiLvlLbl val="0"/>
      </c:catAx>
      <c:valAx>
        <c:axId val="436168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576493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28" spc="-1" strike="noStrike">
                <a:solidFill>
                  <a:srgbClr val="000000"/>
                </a:solidFill>
                <a:latin typeface="Arial"/>
              </a:defRPr>
            </a:pPr>
            <a:r>
              <a:rPr b="1" sz="1428" spc="-1" strike="noStrike">
                <a:solidFill>
                  <a:srgbClr val="000000"/>
                </a:solidFill>
                <a:latin typeface="Arial"/>
              </a:rPr>
              <a:t>MATUTINO</a:t>
            </a:r>
          </a:p>
        </c:rich>
      </c:tx>
      <c:layout>
        <c:manualLayout>
          <c:xMode val="edge"/>
          <c:yMode val="edge"/>
          <c:x val="0.438026138319148"/>
          <c:y val="0.020261263663023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060508813544"/>
          <c:y val="0.209277525993069"/>
          <c:w val="0.959955350913911"/>
          <c:h val="0.770061316982138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2</c:v>
                </c:pt>
                <c:pt idx="3">
                  <c:v>3</c:v>
                </c:pt>
                <c:pt idx="4">
                  <c:v>2</c:v>
                </c:pt>
                <c:pt idx="5">
                  <c:v>2</c:v>
                </c:pt>
                <c:pt idx="6">
                  <c:v>2</c:v>
                </c:pt>
                <c:pt idx="7">
                  <c:v>1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1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84302325581395</c:v>
                </c:pt>
                <c:pt idx="1">
                  <c:v>3.98837209302326</c:v>
                </c:pt>
                <c:pt idx="2">
                  <c:v>10.8255813953488</c:v>
                </c:pt>
                <c:pt idx="3">
                  <c:v>9.68604651162791</c:v>
                </c:pt>
                <c:pt idx="4">
                  <c:v>5.12790697674419</c:v>
                </c:pt>
                <c:pt idx="5">
                  <c:v>5.12790697674419</c:v>
                </c:pt>
                <c:pt idx="6">
                  <c:v>2.27906976744186</c:v>
                </c:pt>
                <c:pt idx="7">
                  <c:v>5.12790697674419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13953488372093</c:v>
                </c:pt>
                <c:pt idx="15">
                  <c:v>0.854651162790698</c:v>
                </c:pt>
              </c:numCache>
            </c:numRef>
          </c:val>
        </c:ser>
        <c:gapWidth val="100"/>
        <c:overlap val="0"/>
        <c:axId val="78026520"/>
        <c:axId val="83178430"/>
      </c:barChart>
      <c:catAx>
        <c:axId val="7802652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178430"/>
        <c:crossesAt val="0"/>
        <c:auto val="1"/>
        <c:lblAlgn val="ctr"/>
        <c:lblOffset val="100"/>
        <c:noMultiLvlLbl val="0"/>
      </c:catAx>
      <c:valAx>
        <c:axId val="831784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026520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083" spc="-1" strike="noStrike">
                <a:solidFill>
                  <a:srgbClr val="000000"/>
                </a:solidFill>
                <a:latin typeface="Arial"/>
              </a:defRPr>
            </a:pPr>
            <a:r>
              <a:rPr b="0" sz="1083" spc="-1" strike="noStrike">
                <a:solidFill>
                  <a:srgbClr val="000000"/>
                </a:solidFill>
                <a:latin typeface="Arial"/>
              </a:rPr>
              <a:t>VESPERTINO</a:t>
            </a:r>
          </a:p>
        </c:rich>
      </c:tx>
      <c:layout>
        <c:manualLayout>
          <c:xMode val="edge"/>
          <c:yMode val="edge"/>
          <c:x val="0.447535665081552"/>
          <c:y val="0.0201224846894138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156355455568054"/>
          <c:w val="0.959912892760322"/>
          <c:h val="0.823147106611674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3</c:v>
                </c:pt>
                <c:pt idx="1">
                  <c:v>3</c:v>
                </c:pt>
                <c:pt idx="2">
                  <c:v>5</c:v>
                </c:pt>
                <c:pt idx="3">
                  <c:v>2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4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3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27397260273973</c:v>
                </c:pt>
                <c:pt idx="1">
                  <c:v>3.20547945205479</c:v>
                </c:pt>
                <c:pt idx="2">
                  <c:v>9.08219178082192</c:v>
                </c:pt>
                <c:pt idx="3">
                  <c:v>8.54794520547945</c:v>
                </c:pt>
                <c:pt idx="4">
                  <c:v>3.73972602739726</c:v>
                </c:pt>
                <c:pt idx="5">
                  <c:v>3.73972602739726</c:v>
                </c:pt>
                <c:pt idx="6">
                  <c:v>1.06849315068493</c:v>
                </c:pt>
                <c:pt idx="7">
                  <c:v>3.73972602739726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.534246575342466</c:v>
                </c:pt>
                <c:pt idx="15">
                  <c:v>1.06849315068493</c:v>
                </c:pt>
              </c:numCache>
            </c:numRef>
          </c:val>
        </c:ser>
        <c:gapWidth val="100"/>
        <c:overlap val="0"/>
        <c:axId val="78239090"/>
        <c:axId val="37885101"/>
      </c:barChart>
      <c:catAx>
        <c:axId val="7823909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85101"/>
        <c:crossesAt val="0"/>
        <c:auto val="1"/>
        <c:lblAlgn val="ctr"/>
        <c:lblOffset val="100"/>
        <c:noMultiLvlLbl val="0"/>
      </c:catAx>
      <c:valAx>
        <c:axId val="378851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239090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6" spc="-1" strike="noStrike">
                <a:solidFill>
                  <a:srgbClr val="000000"/>
                </a:solidFill>
                <a:latin typeface="Arial"/>
              </a:defRPr>
            </a:pPr>
            <a:r>
              <a:rPr b="1" sz="1496" spc="-1" strike="noStrike">
                <a:solidFill>
                  <a:srgbClr val="000000"/>
                </a:solidFill>
                <a:latin typeface="Arial"/>
              </a:rPr>
              <a:t>VESPERTINO</a:t>
            </a:r>
          </a:p>
        </c:rich>
      </c:tx>
      <c:layout>
        <c:manualLayout>
          <c:xMode val="edge"/>
          <c:yMode val="edge"/>
          <c:x val="0.424247811208391"/>
          <c:y val="0.0201224846894138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23847019123"/>
          <c:w val="0.959912892760322"/>
          <c:h val="0.770653668291464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6</c:v>
                </c:pt>
                <c:pt idx="1">
                  <c:v>2</c:v>
                </c:pt>
                <c:pt idx="2">
                  <c:v>4</c:v>
                </c:pt>
                <c:pt idx="3">
                  <c:v>6</c:v>
                </c:pt>
                <c:pt idx="4">
                  <c:v>1</c:v>
                </c:pt>
                <c:pt idx="5">
                  <c:v>2</c:v>
                </c:pt>
                <c:pt idx="6">
                  <c:v>0</c:v>
                </c:pt>
                <c:pt idx="7">
                  <c:v>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28767123287671</c:v>
                </c:pt>
                <c:pt idx="1">
                  <c:v>2.46575342465753</c:v>
                </c:pt>
                <c:pt idx="2">
                  <c:v>6.98630136986301</c:v>
                </c:pt>
                <c:pt idx="3">
                  <c:v>6.57534246575343</c:v>
                </c:pt>
                <c:pt idx="4">
                  <c:v>2.87671232876712</c:v>
                </c:pt>
                <c:pt idx="5">
                  <c:v>2.87671232876712</c:v>
                </c:pt>
                <c:pt idx="6">
                  <c:v>0.821917808219178</c:v>
                </c:pt>
                <c:pt idx="7">
                  <c:v>2.87671232876712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.410958904109589</c:v>
                </c:pt>
                <c:pt idx="15">
                  <c:v>0.821917808219178</c:v>
                </c:pt>
              </c:numCache>
            </c:numRef>
          </c:val>
        </c:ser>
        <c:gapWidth val="100"/>
        <c:overlap val="0"/>
        <c:axId val="80315778"/>
        <c:axId val="37539047"/>
      </c:barChart>
      <c:catAx>
        <c:axId val="8031577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539047"/>
        <c:crossesAt val="0"/>
        <c:auto val="1"/>
        <c:lblAlgn val="ctr"/>
        <c:lblOffset val="100"/>
        <c:noMultiLvlLbl val="0"/>
      </c:catAx>
      <c:valAx>
        <c:axId val="375390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315778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5" spc="-1" strike="noStrike">
                <a:solidFill>
                  <a:srgbClr val="000000"/>
                </a:solidFill>
                <a:latin typeface="Arial"/>
              </a:defRPr>
            </a:pPr>
            <a:r>
              <a:rPr b="1" sz="1495" spc="-1" strike="noStrike">
                <a:solidFill>
                  <a:srgbClr val="000000"/>
                </a:solidFill>
                <a:latin typeface="Arial"/>
              </a:rPr>
              <a:t>VESPERTINO</a:t>
            </a:r>
          </a:p>
        </c:rich>
      </c:tx>
      <c:layout>
        <c:manualLayout>
          <c:xMode val="edge"/>
          <c:yMode val="edge"/>
          <c:x val="0.424336696146838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209223847019123"/>
          <c:w val="0.959957335229545"/>
          <c:h val="0.77002874640669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6</c:v>
                </c:pt>
                <c:pt idx="1">
                  <c:v>5</c:v>
                </c:pt>
                <c:pt idx="2">
                  <c:v>2</c:v>
                </c:pt>
                <c:pt idx="3">
                  <c:v>5</c:v>
                </c:pt>
                <c:pt idx="4">
                  <c:v>2</c:v>
                </c:pt>
                <c:pt idx="5">
                  <c:v>3</c:v>
                </c:pt>
                <c:pt idx="6">
                  <c:v>0</c:v>
                </c:pt>
                <c:pt idx="7">
                  <c:v>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28767123287671</c:v>
                </c:pt>
                <c:pt idx="1">
                  <c:v>2.46575342465753</c:v>
                </c:pt>
                <c:pt idx="2">
                  <c:v>6.98630136986301</c:v>
                </c:pt>
                <c:pt idx="3">
                  <c:v>6.57534246575343</c:v>
                </c:pt>
                <c:pt idx="4">
                  <c:v>2.87671232876712</c:v>
                </c:pt>
                <c:pt idx="5">
                  <c:v>2.87671232876712</c:v>
                </c:pt>
                <c:pt idx="6">
                  <c:v>0.821917808219178</c:v>
                </c:pt>
                <c:pt idx="7">
                  <c:v>2.87671232876712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.410958904109589</c:v>
                </c:pt>
                <c:pt idx="15">
                  <c:v>0.821917808219178</c:v>
                </c:pt>
              </c:numCache>
            </c:numRef>
          </c:val>
        </c:ser>
        <c:gapWidth val="100"/>
        <c:overlap val="0"/>
        <c:axId val="94361000"/>
        <c:axId val="64570398"/>
      </c:barChart>
      <c:catAx>
        <c:axId val="9436100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570398"/>
        <c:crossesAt val="0"/>
        <c:auto val="1"/>
        <c:lblAlgn val="ctr"/>
        <c:lblOffset val="100"/>
        <c:noMultiLvlLbl val="0"/>
      </c:catAx>
      <c:valAx>
        <c:axId val="645703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361000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4" spc="-1" strike="noStrike">
                <a:solidFill>
                  <a:srgbClr val="000000"/>
                </a:solidFill>
                <a:latin typeface="Arial"/>
              </a:defRPr>
            </a:pPr>
            <a:r>
              <a:rPr b="1" sz="1494" spc="-1" strike="noStrike">
                <a:solidFill>
                  <a:srgbClr val="000000"/>
                </a:solidFill>
                <a:latin typeface="Arial"/>
              </a:rPr>
              <a:t>VESPERTINO</a:t>
            </a:r>
          </a:p>
        </c:rich>
      </c:tx>
      <c:layout>
        <c:manualLayout>
          <c:xMode val="edge"/>
          <c:yMode val="edge"/>
          <c:x val="0.424381138616062"/>
          <c:y val="0.0202639648046927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209305425943208"/>
          <c:w val="0.959957335229545"/>
          <c:h val="0.77003066257832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6</c:v>
                </c:pt>
                <c:pt idx="1">
                  <c:v>7</c:v>
                </c:pt>
                <c:pt idx="2">
                  <c:v>1</c:v>
                </c:pt>
                <c:pt idx="3">
                  <c:v>3</c:v>
                </c:pt>
                <c:pt idx="4">
                  <c:v>4</c:v>
                </c:pt>
                <c:pt idx="5">
                  <c:v>0</c:v>
                </c:pt>
                <c:pt idx="6">
                  <c:v>0</c:v>
                </c:pt>
                <c:pt idx="7">
                  <c:v>3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83561643835616</c:v>
                </c:pt>
                <c:pt idx="1">
                  <c:v>2.87671232876712</c:v>
                </c:pt>
                <c:pt idx="2">
                  <c:v>8.15068493150685</c:v>
                </c:pt>
                <c:pt idx="3">
                  <c:v>7.67123287671233</c:v>
                </c:pt>
                <c:pt idx="4">
                  <c:v>3.35616438356164</c:v>
                </c:pt>
                <c:pt idx="5">
                  <c:v>3.35616438356164</c:v>
                </c:pt>
                <c:pt idx="6">
                  <c:v>0.958904109589041</c:v>
                </c:pt>
                <c:pt idx="7">
                  <c:v>3.35616438356164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.479452054794521</c:v>
                </c:pt>
                <c:pt idx="15">
                  <c:v>0.958904109589041</c:v>
                </c:pt>
              </c:numCache>
            </c:numRef>
          </c:val>
        </c:ser>
        <c:gapWidth val="100"/>
        <c:overlap val="0"/>
        <c:axId val="62012940"/>
        <c:axId val="39701552"/>
      </c:barChart>
      <c:catAx>
        <c:axId val="6201294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701552"/>
        <c:crossesAt val="0"/>
        <c:auto val="1"/>
        <c:lblAlgn val="ctr"/>
        <c:lblOffset val="100"/>
        <c:noMultiLvlLbl val="0"/>
      </c:catAx>
      <c:valAx>
        <c:axId val="397015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012940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5A47-CFA7-4F4A-BE51-366649075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406440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AFCD-D9B1-47C5-88D9-7908FF9E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4856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0182-9209-434D-9F5A-7208D4DFE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0584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1640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0584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1640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27B8-6A92-4506-A292-4EB500C4A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05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8286-A729-4766-B9EF-E78F17C4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04856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5280" y="406440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04856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80584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21640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528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280584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21640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C9FF-BAEB-4EB2-BD7E-FAE6CA48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7C78-FBF4-4247-9CF9-414EDE87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EB2F-B7F6-40D6-961E-771C7C12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05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3939-DFDE-4A63-B2A7-A24DF170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3878-06C4-4A30-A103-0D8E8FC9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4856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4394-1C30-4788-811D-419A515A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B598-8ADF-46BA-8F71-CF1F00DF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1280" y="6364440"/>
            <a:ext cx="1162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3492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360" y="6364440"/>
            <a:ext cx="53964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4537-4BB2-41C1-BEC8-383B00CA561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chart" Target="../charts/chart5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chart" Target="../charts/chart6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../cronograma%20de%20a&#231;&#227;o%20das%20escolas/cronograma%20de%20a&#231;&#227;o%20EEPA.doc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560" y="1213920"/>
            <a:ext cx="648180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E PADRE ANCHIETA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VA ANDRADINA - 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50920" y="5229000"/>
            <a:ext cx="68421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UNIÃO SEMES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Object 4"/>
          <p:cNvGraphicFramePr/>
          <p:nvPr/>
        </p:nvGraphicFramePr>
        <p:xfrm>
          <a:off x="142920" y="1571760"/>
          <a:ext cx="7129440" cy="24876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16" name="CaixaDeTexto 4"/>
          <p:cNvSpPr/>
          <p:nvPr/>
        </p:nvSpPr>
        <p:spPr>
          <a:xfrm>
            <a:off x="1500120" y="4500720"/>
            <a:ext cx="3000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5"/>
          <p:cNvGraphicFramePr/>
          <p:nvPr/>
        </p:nvGraphicFramePr>
        <p:xfrm>
          <a:off x="1857240" y="414324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57240" y="414324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Espaço Reservado para Rodapé 6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4"/>
          <a:stretch/>
        </p:blipFill>
        <p:spPr>
          <a:xfrm>
            <a:off x="6429240" y="464328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VESPERTI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RÇO, ABRIL, MAIO E JUN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FESSORA MICHELE PICO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spaço Reservado para Rodapé 3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142920" y="1571760"/>
          <a:ext cx="7129440" cy="2533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126" name="Object 5"/>
          <p:cNvGraphicFramePr/>
          <p:nvPr/>
        </p:nvGraphicFramePr>
        <p:xfrm>
          <a:off x="2000160" y="421488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00160" y="42148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Espaço Reservado para Rodapé 6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4"/>
          <a:stretch/>
        </p:blipFill>
        <p:spPr>
          <a:xfrm>
            <a:off x="6572160" y="464328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1" name="Object 4"/>
          <p:cNvGraphicFramePr/>
          <p:nvPr/>
        </p:nvGraphicFramePr>
        <p:xfrm>
          <a:off x="142920" y="1643040"/>
          <a:ext cx="7129440" cy="2533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132" name="Object 5"/>
          <p:cNvGraphicFramePr/>
          <p:nvPr/>
        </p:nvGraphicFramePr>
        <p:xfrm>
          <a:off x="1785960" y="428616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85960" y="428616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Espaço Reservado para Rodapé 6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4"/>
          <a:stretch/>
        </p:blipFill>
        <p:spPr>
          <a:xfrm>
            <a:off x="6500880" y="4714920"/>
            <a:ext cx="16952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142920" y="1643040"/>
          <a:ext cx="7129440" cy="2533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38" name="CaixaDeTexto 4"/>
          <p:cNvSpPr/>
          <p:nvPr/>
        </p:nvSpPr>
        <p:spPr>
          <a:xfrm>
            <a:off x="1571760" y="4572000"/>
            <a:ext cx="2357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5"/>
          <p:cNvGraphicFramePr/>
          <p:nvPr/>
        </p:nvGraphicFramePr>
        <p:xfrm>
          <a:off x="1928880" y="421488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8880" y="42148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Espaço Reservado para Rodapé 6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4"/>
          <a:stretch/>
        </p:blipFill>
        <p:spPr>
          <a:xfrm>
            <a:off x="6500880" y="4643280"/>
            <a:ext cx="16952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142920" y="1643040"/>
          <a:ext cx="7129440" cy="2376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45" name="CaixaDeTexto 4"/>
          <p:cNvSpPr/>
          <p:nvPr/>
        </p:nvSpPr>
        <p:spPr>
          <a:xfrm>
            <a:off x="1643040" y="4429080"/>
            <a:ext cx="3071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5"/>
          <p:cNvGraphicFramePr/>
          <p:nvPr/>
        </p:nvGraphicFramePr>
        <p:xfrm>
          <a:off x="1928880" y="407196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8880" y="407196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Espaço Reservado para Rodapé 6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4"/>
          <a:stretch/>
        </p:blipFill>
        <p:spPr>
          <a:xfrm>
            <a:off x="6572160" y="450072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3- Identificação dos professores que usaram as tecnologias efetivamente no 1º semestre e os que não utilizaram e qual turno apresentou menos u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85840" y="17146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Matut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unca utilizaram: (Ed. Religio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is utilizaram: ( Port / Ciênci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édia de aulas ociosas: 74,7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édia de aulas utilizadas: 25,23%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Vespert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unca utilizaram: (Inglês / Prod. Interativ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is utilizaram: (Ed. Física / Artes / Port / Mat / Ciênci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édia de aulas ociosas: 30,0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édia de aulas utilizadas: 69,9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ço Reservado para Rodapé 3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CaixaDeTexto 4"/>
          <p:cNvSpPr/>
          <p:nvPr/>
        </p:nvSpPr>
        <p:spPr>
          <a:xfrm>
            <a:off x="2643120" y="5500800"/>
            <a:ext cx="3571920" cy="580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urno que apresentou menos uso: 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Matut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ALGUNS PONTOS PARA REFLETIR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TINUAR ATENTAS ÀS DATAS PREVISTAS PARA TÉRMINO DAS ATIVIDAD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BÉNS PELO COMPROMISSO ASSUMIDO JUNTO À ESCOL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UGIRO PARA O 2º SEMESTRE ATENÇÃO ESPECIAL AOS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ROFESSORES AUSENT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NA STE NO 1º SEMES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spaço Reservado para Rodapé 3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REFLEXÃO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sulte não a seus medos mas a suas esperanças e sonhos. Pense não sobre suas frustrações, mas sobre seu potencial não usado. Preocupe-se não com o que você tentou e falhou, mas com aquilo que ainda é possível a você faz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( Papa João XXIII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ço Reservado para Rodapé 3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OBJETIVO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presentar as ações que foram desenvolvidas pe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ofessores multiplicadores (NTE – STE) no 1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mestr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presentar, analisar e refletir a respeito do uso 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TE da escola no 1º semestr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presentar cronograma de ações do 2º semestre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Dougl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rientar na elaboração do cronograma de ações d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ofessores da STE no 2º semestre para formaçã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 loco; (Dougl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Espaço Reservado para Rodapé 3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ESTRUTURA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1. Apresentar as ações previstas, executadas e a executar pelos professores do NTE e STE no 1º semestr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2. Apresentar a realidade de uso da STE nos meses de março – abril – maio e junh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3. Identificar os professores que usaram as tecnologias efetivamente no 1º semestre e os que não utilizaram e qual turno apresentou menos us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4. Pontos a refletir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5. Apresentar e discutir cronograma de ações NTE/STE para o 2º semestre; (Dougl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Espaço Reservado para Rodapé 3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1. Ações previstas, executadas e a executar pelos professores da STE no 1º semestre de 200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ronograma do plano de ação - P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Espaço Reservado para Rodapé 3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2. Realidade de uso da STE nos meses de março – abril – maio e jun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Espaço Reservado para Rodapé 2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TUTI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RÇO, ABRIL, MAIO E JUNH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FESSORA SÔNIA DE ARAUJO PEREI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ço Reservado para Rodapé 3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Object 4"/>
          <p:cNvGraphicFramePr/>
          <p:nvPr/>
        </p:nvGraphicFramePr>
        <p:xfrm>
          <a:off x="142920" y="1571760"/>
          <a:ext cx="7129440" cy="2533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97" name="Object 5"/>
          <p:cNvGraphicFramePr/>
          <p:nvPr/>
        </p:nvGraphicFramePr>
        <p:xfrm>
          <a:off x="1928880" y="435780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8880" y="435780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Espaço Reservado para Rodapé 6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4"/>
          <a:stretch/>
        </p:blipFill>
        <p:spPr>
          <a:xfrm>
            <a:off x="6500880" y="4500720"/>
            <a:ext cx="16952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Object 4"/>
          <p:cNvGraphicFramePr/>
          <p:nvPr/>
        </p:nvGraphicFramePr>
        <p:xfrm>
          <a:off x="142920" y="1643040"/>
          <a:ext cx="7129440" cy="2533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103" name="Object 5"/>
          <p:cNvGraphicFramePr/>
          <p:nvPr/>
        </p:nvGraphicFramePr>
        <p:xfrm>
          <a:off x="1643040" y="428616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43040" y="428616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Espaço Reservado para Rodapé 6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4"/>
          <a:stretch/>
        </p:blipFill>
        <p:spPr>
          <a:xfrm>
            <a:off x="6429240" y="464328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142920" y="1571760"/>
          <a:ext cx="7129440" cy="25254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09" name="CaixaDeTexto 4"/>
          <p:cNvSpPr/>
          <p:nvPr/>
        </p:nvSpPr>
        <p:spPr>
          <a:xfrm>
            <a:off x="1214280" y="4786200"/>
            <a:ext cx="3071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5"/>
          <p:cNvGraphicFramePr/>
          <p:nvPr/>
        </p:nvGraphicFramePr>
        <p:xfrm>
          <a:off x="1928880" y="414324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8880" y="414324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Espaço Reservado para Rodapé 6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4"/>
          <a:stretch/>
        </p:blipFill>
        <p:spPr>
          <a:xfrm>
            <a:off x="6500880" y="4572000"/>
            <a:ext cx="16952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1:26:23Z</dcterms:created>
  <dc:creator>Luciana Catarino</dc:creator>
  <dc:description/>
  <dc:language>en-US</dc:language>
  <cp:lastModifiedBy>Luciana Catarino</cp:lastModifiedBy>
  <dcterms:modified xsi:type="dcterms:W3CDTF">2009-07-10T15:03:12Z</dcterms:modified>
  <cp:revision>17</cp:revision>
  <dc:subject/>
  <dc:title>EE PADRE ANCHIETA NOVA ANDRADINA - MS</dc:title>
</cp:coreProperties>
</file>